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7096C-61EF-4EF9-BD29-BE15DBB45D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BADA9-4D04-416D-BE85-F764948B3A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A8DA1-61B5-47FB-B0A5-F816A2D48B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657DF-C20E-4DF3-A70E-2F52DFCE73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EECD4-AAD5-4C77-8F20-A8E1209252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DC406-E8E8-470E-BA8A-70C09BF7C1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B3384-8273-4BCC-83DC-3D783285CA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E9171-6591-46DB-9545-0481002807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5C883-A493-4D70-A740-2FF43E924E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74C63-CF24-4ACE-8431-9F266C5FDD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6D7F6-C426-42FC-80D3-3F3EB7E2DB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FB844-E7E4-407F-B3A9-4C6F14BA87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C418F-96A4-4716-B200-98EA83E21E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36CAB-4224-440D-A088-29486CA754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EE8E-3FAF-47B8-B463-C949E97992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15EEF-2ACD-4A3D-9C6B-14A309D9D1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F4D0F-B690-4F1D-80FD-E97714550A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53C29-2D67-4BC8-9D31-03E55301AE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35291-1D2B-4AF0-A43C-A272EA697A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BB0D6-8F9A-4A0B-A415-B492DBAA1A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3E777-EB06-4F50-8E70-7C710158DD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669CD-227D-4288-B6C0-DD5A1AF862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3DF8-32A9-4433-92B4-1A4C9EE71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C17E-3284-4E89-B152-785D81412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FFFD-147F-4DE1-BAFD-4F009DC33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1594-6C17-453F-A720-47AE0C695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BD20-3E98-495C-81D8-DCF281298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EA7B-5320-4C85-A094-42C09E60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76C3-91F2-43BA-B9A4-5BA05BADF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24B4-BFDD-4F16-9D8F-5414C77DA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B33F-B361-4D49-83C6-832632444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81E4-FCC9-4DA0-95B6-201AEBA1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3941-3CC8-426D-8FC9-25EB6702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098F-F741-4DE6-B72A-99C974B8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0601-F385-454C-89A0-0E868FC0DF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eidos.ru/journal/2005/1212.htm" TargetMode="External"/><Relationship Id="rId2" Type="http://schemas.openxmlformats.org/officeDocument/2006/relationships/hyperlink" Target="http://festival.1september.ru/articles/574903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291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Формирование нравственных установок учащихся на уроках филологического цикл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fbfbf"/>
                </a:solidFill>
                <a:latin typeface="Arial"/>
              </a:rPr>
              <a:t>Токранов Николай Валерьевич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fbfbf"/>
                </a:solidFill>
                <a:latin typeface="Arial"/>
              </a:rPr>
              <a:t>учитель русского языка и литературы МБОУ «Средняя школа №111» Советского района г.Каза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DE8FF-E3C1-4E5B-AC81-5B84BF69B1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Organization Chart 7"/>
          <p:cNvGrpSpPr/>
          <p:nvPr/>
        </p:nvGrpSpPr>
        <p:grpSpPr>
          <a:xfrm>
            <a:off x="0" y="98280"/>
            <a:ext cx="9143640" cy="6606720"/>
            <a:chOff x="0" y="98280"/>
            <a:chExt cx="9143640" cy="6606720"/>
          </a:xfrm>
        </p:grpSpPr>
        <p:cxnSp>
          <p:nvCxnSpPr>
            <p:cNvPr id="79" name="_s2052"/>
            <p:cNvCxnSpPr>
              <a:stCxn id="80" idx="1"/>
              <a:endCxn id="81" idx="2"/>
            </p:cNvCxnSpPr>
            <p:nvPr/>
          </p:nvCxnSpPr>
          <p:spPr>
            <a:xfrm rot="10800000">
              <a:off x="6681240" y="3873600"/>
              <a:ext cx="352080" cy="2359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2" name="_s2053"/>
            <p:cNvCxnSpPr>
              <a:stCxn id="83" idx="1"/>
              <a:endCxn id="81" idx="2"/>
            </p:cNvCxnSpPr>
            <p:nvPr/>
          </p:nvCxnSpPr>
          <p:spPr>
            <a:xfrm rot="10800000">
              <a:off x="6681240" y="3872880"/>
              <a:ext cx="352080" cy="944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4" name="_s2054"/>
            <p:cNvCxnSpPr>
              <a:stCxn id="85" idx="1"/>
              <a:endCxn id="86" idx="2"/>
            </p:cNvCxnSpPr>
            <p:nvPr/>
          </p:nvCxnSpPr>
          <p:spPr>
            <a:xfrm rot="10800000">
              <a:off x="3867480" y="3873600"/>
              <a:ext cx="352080" cy="2359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" name="_s2055"/>
            <p:cNvCxnSpPr>
              <a:stCxn id="88" idx="1"/>
              <a:endCxn id="86" idx="2"/>
            </p:cNvCxnSpPr>
            <p:nvPr/>
          </p:nvCxnSpPr>
          <p:spPr>
            <a:xfrm rot="10800000">
              <a:off x="3867480" y="3872880"/>
              <a:ext cx="352080" cy="944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9" name="_s2056"/>
            <p:cNvCxnSpPr>
              <a:stCxn id="90" idx="1"/>
              <a:endCxn id="91" idx="2"/>
            </p:cNvCxnSpPr>
            <p:nvPr/>
          </p:nvCxnSpPr>
          <p:spPr>
            <a:xfrm rot="10800000">
              <a:off x="1054080" y="3872880"/>
              <a:ext cx="352080" cy="944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2" name="_s2057"/>
            <p:cNvCxnSpPr>
              <a:stCxn id="81" idx="0"/>
              <a:endCxn id="93" idx="2"/>
            </p:cNvCxnSpPr>
            <p:nvPr/>
          </p:nvCxnSpPr>
          <p:spPr>
            <a:xfrm flipV="1">
              <a:off x="6681960" y="2457360"/>
              <a:ext cx="2880" cy="472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4" name="_s2058"/>
            <p:cNvCxnSpPr>
              <a:stCxn id="86" idx="0"/>
              <a:endCxn id="95" idx="2"/>
            </p:cNvCxnSpPr>
            <p:nvPr/>
          </p:nvCxnSpPr>
          <p:spPr>
            <a:xfrm flipV="1" rot="16200000">
              <a:off x="2928600" y="1989720"/>
              <a:ext cx="472320" cy="1407240"/>
            </a:xfrm>
            <a:prstGeom prst="bentConnector3">
              <a:avLst>
                <a:gd name="adj1" fmla="val 2616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6" name="_s2059"/>
            <p:cNvCxnSpPr>
              <a:stCxn id="91" idx="0"/>
              <a:endCxn id="95" idx="2"/>
            </p:cNvCxnSpPr>
            <p:nvPr/>
          </p:nvCxnSpPr>
          <p:spPr>
            <a:xfrm flipH="1" flipV="1" rot="5400000">
              <a:off x="1521720" y="1989720"/>
              <a:ext cx="472320" cy="1407240"/>
            </a:xfrm>
            <a:prstGeom prst="bentConnector3">
              <a:avLst>
                <a:gd name="adj1" fmla="val 2616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2060"/>
            <p:cNvCxnSpPr>
              <a:stCxn id="93" idx="0"/>
              <a:endCxn id="98" idx="2"/>
            </p:cNvCxnSpPr>
            <p:nvPr/>
          </p:nvCxnSpPr>
          <p:spPr>
            <a:xfrm flipV="1" rot="16200000">
              <a:off x="5390280" y="222120"/>
              <a:ext cx="472320" cy="2110680"/>
            </a:xfrm>
            <a:prstGeom prst="bentConnector3">
              <a:avLst>
                <a:gd name="adj1" fmla="val 2623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9" name="_s2061"/>
            <p:cNvCxnSpPr>
              <a:stCxn id="95" idx="0"/>
              <a:endCxn id="98" idx="2"/>
            </p:cNvCxnSpPr>
            <p:nvPr/>
          </p:nvCxnSpPr>
          <p:spPr>
            <a:xfrm flipH="1" flipV="1" rot="5400000">
              <a:off x="3280320" y="222120"/>
              <a:ext cx="472320" cy="2110680"/>
            </a:xfrm>
            <a:prstGeom prst="bentConnector3">
              <a:avLst>
                <a:gd name="adj1" fmla="val 2623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8" name="_s2062"/>
            <p:cNvSpPr/>
            <p:nvPr/>
          </p:nvSpPr>
          <p:spPr>
            <a:xfrm>
              <a:off x="3516840" y="9828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Читательска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грамотн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2063"/>
            <p:cNvSpPr/>
            <p:nvPr/>
          </p:nvSpPr>
          <p:spPr>
            <a:xfrm>
              <a:off x="1406520" y="151380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пора на текс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2064"/>
            <p:cNvSpPr/>
            <p:nvPr/>
          </p:nvSpPr>
          <p:spPr>
            <a:xfrm>
              <a:off x="5626800" y="151380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пора н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внетекстово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зна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2065"/>
            <p:cNvSpPr/>
            <p:nvPr/>
          </p:nvSpPr>
          <p:spPr>
            <a:xfrm>
              <a:off x="0" y="292968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айти и извлеч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информацию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2066"/>
            <p:cNvSpPr/>
            <p:nvPr/>
          </p:nvSpPr>
          <p:spPr>
            <a:xfrm>
              <a:off x="2813400" y="292968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нтегрировать 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нтерпретирова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информацию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2067"/>
            <p:cNvSpPr/>
            <p:nvPr/>
          </p:nvSpPr>
          <p:spPr>
            <a:xfrm>
              <a:off x="5626800" y="292968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смыслить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 оцени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сообщение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2068"/>
            <p:cNvSpPr/>
            <p:nvPr/>
          </p:nvSpPr>
          <p:spPr>
            <a:xfrm>
              <a:off x="1406520" y="434556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звлеч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информацию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2069"/>
            <p:cNvSpPr/>
            <p:nvPr/>
          </p:nvSpPr>
          <p:spPr>
            <a:xfrm>
              <a:off x="4219920" y="4345560"/>
              <a:ext cx="2109960" cy="939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формировать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бщее понимани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текст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2070"/>
            <p:cNvSpPr/>
            <p:nvPr/>
          </p:nvSpPr>
          <p:spPr>
            <a:xfrm>
              <a:off x="4219920" y="5761440"/>
              <a:ext cx="2109960" cy="939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толковать текс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2071"/>
            <p:cNvSpPr/>
            <p:nvPr/>
          </p:nvSpPr>
          <p:spPr>
            <a:xfrm>
              <a:off x="7033680" y="434556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смыслить 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ценить содержа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ие текст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2072"/>
            <p:cNvSpPr/>
            <p:nvPr/>
          </p:nvSpPr>
          <p:spPr>
            <a:xfrm>
              <a:off x="7033680" y="576144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смыслить 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ценить форм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текст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учение способов самостоятельного анализа тек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Вопросы анке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1. Составляю план                                                           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2. Выписываю сложные места                                        4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3. Запоминаю весь текст или его части                          3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4. Разбираю сложные места при помощи                      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взрослых или дополнительной литер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5. Читаю текст несколько раз                                          7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6. Составляю таблицу или схему                                    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7. Легко подбираю примеры к                                          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предложенному текс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8. Легко пересказываю текст учебника                           4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своими слов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Репрезентативная выборка составила 50 челове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2f2f2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8D51F-88EE-4F0B-93F8-0F4E9D80CBF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Диагностическая карта уровней восприятия текста Ф.Абрамова «О чем плачут лошади»</a:t>
            </a: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учащихся 7-го класса (по Н.Д.Молдавской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905120"/>
          <a:ext cx="8305920" cy="4227480"/>
        </p:xfrm>
        <a:graphic>
          <a:graphicData uri="http://schemas.openxmlformats.org/drawingml/2006/table">
            <a:tbl>
              <a:tblPr/>
              <a:tblGrid>
                <a:gridCol w="1703520"/>
                <a:gridCol w="2011320"/>
                <a:gridCol w="2293920"/>
                <a:gridCol w="2297160"/>
              </a:tblGrid>
              <a:tr h="335412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отографи-ческое  восприят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уров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разное обобщение на сюжетно-событийной основ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уров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разное обобщение на основе осмысления композиционных связей без понимания образа авто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уров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разное обобщение на композиционной основе с ограниченным пониманием образа авто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7336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из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из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3989F-6577-4B7B-BA9C-A7A3F00F045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8600" y="24444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Диагностика уровня усвоения учащимися 7-го класса содержания нравственных понятий в ходе анализа текста  Ф.Абрамова «О чем плачут лошади» (по Павловой И.И.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33520" y="1600200"/>
          <a:ext cx="8153280" cy="4595760"/>
        </p:xfrm>
        <a:graphic>
          <a:graphicData uri="http://schemas.openxmlformats.org/drawingml/2006/table">
            <a:tbl>
              <a:tblPr/>
              <a:tblGrid>
                <a:gridCol w="2271600"/>
                <a:gridCol w="1604880"/>
                <a:gridCol w="1470240"/>
                <a:gridCol w="1434960"/>
                <a:gridCol w="1371600"/>
              </a:tblGrid>
              <a:tr h="73188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ределяемое поня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лн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ним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бал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авильное поним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бал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глубо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ним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бал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поним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бал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388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триотиз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544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тернационализ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лективиз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рудолюб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бежде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40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ужеств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348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ероиз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960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дви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ветстве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уманиз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888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циональное достоин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ест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8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C3C75-38C9-4D3E-B8BD-C01939EE423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тодический инструментар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Виды рабо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ловарна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бота с текс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витие речи (устной и письменн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Формы работы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седа (репродуктивная и эвристическа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испу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е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следован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щение в виртуальном простран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8A35F-4ED1-43F0-B708-7FB6F39A4E8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тодический инструментар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Технологии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я развития критического мышления через чтение (способность ставить новые вопросы, вырабатывать разнообразные аргументы, принимать независимые продуманные решения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я поэтапного формирования умений учи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я формирования «вдумчивого читателя» (инсерт, рафт, «толстые» и «тонкие» вопросы, чтение с пометами, класте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СО, ГС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тоды проблемного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ейс-стади </a:t>
            </a:r>
            <a:r>
              <a:rPr b="0" lang="ru-RU" sz="2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B3C9A-74A8-4C59-836C-5F65312F587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ластер «Образная система в повести А.И.Куприна «Олес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6"/>
          <p:cNvSpPr/>
          <p:nvPr/>
        </p:nvSpPr>
        <p:spPr>
          <a:xfrm>
            <a:off x="1676520" y="1828800"/>
            <a:ext cx="144756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еллигент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7"/>
          <p:cNvSpPr/>
          <p:nvPr/>
        </p:nvSpPr>
        <p:spPr>
          <a:xfrm>
            <a:off x="533520" y="2590920"/>
            <a:ext cx="144756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реши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8"/>
          <p:cNvSpPr/>
          <p:nvPr/>
        </p:nvSpPr>
        <p:spPr>
          <a:xfrm>
            <a:off x="762120" y="3886200"/>
            <a:ext cx="16002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способ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 самопожертвова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9"/>
          <p:cNvSpPr/>
          <p:nvPr/>
        </p:nvSpPr>
        <p:spPr>
          <a:xfrm>
            <a:off x="5715000" y="1752480"/>
            <a:ext cx="16002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пособ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 самоотвержен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юбв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0"/>
          <p:cNvSpPr/>
          <p:nvPr/>
        </p:nvSpPr>
        <p:spPr>
          <a:xfrm>
            <a:off x="7010280" y="2590920"/>
            <a:ext cx="129564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ши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1"/>
          <p:cNvSpPr/>
          <p:nvPr/>
        </p:nvSpPr>
        <p:spPr>
          <a:xfrm>
            <a:off x="7162920" y="4038480"/>
            <a:ext cx="13716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стота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те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2286000" y="4952880"/>
            <a:ext cx="17524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елове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ивил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5029200" y="4876920"/>
            <a:ext cx="18288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елове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з мира прир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2590920" y="3200400"/>
            <a:ext cx="15238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ва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имофе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5"/>
          <p:cNvSpPr/>
          <p:nvPr/>
        </p:nvSpPr>
        <p:spPr>
          <a:xfrm>
            <a:off x="4876920" y="3276720"/>
            <a:ext cx="13716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ле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1"/>
          <p:cNvSpPr/>
          <p:nvPr/>
        </p:nvSpPr>
        <p:spPr>
          <a:xfrm>
            <a:off x="3581280" y="609588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тите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2"/>
          <p:cNvSpPr/>
          <p:nvPr/>
        </p:nvSpPr>
        <p:spPr>
          <a:xfrm flipH="1" flipV="1">
            <a:off x="2590920" y="274320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3"/>
          <p:cNvSpPr/>
          <p:nvPr/>
        </p:nvSpPr>
        <p:spPr>
          <a:xfrm flipH="1" flipV="1">
            <a:off x="1828440" y="335232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4"/>
          <p:cNvSpPr/>
          <p:nvPr/>
        </p:nvSpPr>
        <p:spPr>
          <a:xfrm flipH="1">
            <a:off x="2209320" y="396252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5"/>
          <p:cNvSpPr/>
          <p:nvPr/>
        </p:nvSpPr>
        <p:spPr>
          <a:xfrm>
            <a:off x="2971800" y="4114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6"/>
          <p:cNvSpPr/>
          <p:nvPr/>
        </p:nvSpPr>
        <p:spPr>
          <a:xfrm flipV="1">
            <a:off x="5791320" y="25905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7"/>
          <p:cNvSpPr/>
          <p:nvPr/>
        </p:nvSpPr>
        <p:spPr>
          <a:xfrm flipV="1">
            <a:off x="6172200" y="3352320"/>
            <a:ext cx="9907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8"/>
          <p:cNvSpPr/>
          <p:nvPr/>
        </p:nvSpPr>
        <p:spPr>
          <a:xfrm>
            <a:off x="6248520" y="4114800"/>
            <a:ext cx="9903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0"/>
          <p:cNvSpPr/>
          <p:nvPr/>
        </p:nvSpPr>
        <p:spPr>
          <a:xfrm>
            <a:off x="6019920" y="4191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3"/>
          <p:cNvSpPr/>
          <p:nvPr/>
        </p:nvSpPr>
        <p:spPr>
          <a:xfrm>
            <a:off x="3048120" y="5867280"/>
            <a:ext cx="5331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4"/>
          <p:cNvSpPr/>
          <p:nvPr/>
        </p:nvSpPr>
        <p:spPr>
          <a:xfrm flipV="1">
            <a:off x="5410080" y="57909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лгоритм формирования навыка «вдумчивого» ч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ова главная мысль абзац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ределите ключевые слова и словосочетания в данном отрыв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 связана главная мысль данного абзаца с содержанием предыдущего абзац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 чем предположительно пойдет речь в следующем абзаце?</a:t>
            </a:r>
            <a:r>
              <a:rPr b="0" lang="ru-RU" sz="2800" spc="-1" strike="noStrike">
                <a:solidFill>
                  <a:srgbClr val="bbe0e3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CE602-57FE-44C1-ACF9-85D8FA8CC70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Object 2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6988320" cy="47750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межуточная диагно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Object 6"/>
          <p:cNvGraphicFramePr/>
          <p:nvPr/>
        </p:nvGraphicFramePr>
        <p:xfrm>
          <a:off x="4495680" y="914400"/>
          <a:ext cx="4586400" cy="3265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95680" y="914400"/>
                    <a:ext cx="4586400" cy="32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73E39-84DE-4F0A-BE4C-A12C83AD6D5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5"/>
          <p:cNvSpPr/>
          <p:nvPr/>
        </p:nvSpPr>
        <p:spPr>
          <a:xfrm>
            <a:off x="228600" y="2362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9280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Рисунок 4" descr=""/>
          <p:cNvPicPr/>
          <p:nvPr/>
        </p:nvPicPr>
        <p:blipFill>
          <a:blip r:embed="rId1"/>
          <a:srcRect l="30436" t="0" r="22135" b="0"/>
          <a:stretch/>
        </p:blipFill>
        <p:spPr>
          <a:xfrm>
            <a:off x="609480" y="0"/>
            <a:ext cx="8229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ктуальность 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едеральный государственный стандарт основного общего образования по русскому языку и литературе определяет главными целями изучения предметов формирование духовно развитой личности, обладающей гуманистическим мировоззрением, чувством патриотизма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f2f2"/>
                </a:solidFill>
                <a:latin typeface="Arial"/>
              </a:rPr>
              <a:t>Методологической основой разработки и реализации федерального государственного образовательного стандарта общего образования является концепция духовно-нравственного развития и воспитания личности гражданина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47BC0-5A74-48EA-A55F-6092AC3CF8F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Литературно-музыкальная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тудия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17 кабинет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86728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усские народные пес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усский роман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ворчество бардов -шестидесят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ходные пес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временные рок-исполнител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00000"/>
                </a:solidFill>
                <a:latin typeface="Arial"/>
              </a:rPr>
              <a:t>Жизнь, судьба, эпоха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После уроков2"/>
          <p:cNvPicPr/>
          <p:nvPr/>
        </p:nvPicPr>
        <p:blipFill>
          <a:blip r:embed="rId1"/>
          <a:stretch/>
        </p:blipFill>
        <p:spPr>
          <a:xfrm>
            <a:off x="6362640" y="1219320"/>
            <a:ext cx="2667240" cy="2000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После уроков3"/>
          <p:cNvPicPr/>
          <p:nvPr/>
        </p:nvPicPr>
        <p:blipFill>
          <a:blip r:embed="rId2"/>
          <a:stretch/>
        </p:blipFill>
        <p:spPr>
          <a:xfrm>
            <a:off x="5105520" y="2971800"/>
            <a:ext cx="2590560" cy="19414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шкид3"/>
          <p:cNvPicPr/>
          <p:nvPr/>
        </p:nvPicPr>
        <p:blipFill>
          <a:blip r:embed="rId3"/>
          <a:stretch/>
        </p:blipFill>
        <p:spPr>
          <a:xfrm>
            <a:off x="6248520" y="4648320"/>
            <a:ext cx="2590560" cy="19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омежуточная диагнос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Патриотизм для меня - понятие двойственное. С одной стороны, в нём много общественного, с другой, что-то личное, свое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Быть патриотом не значит везде и всюду хвалить свою страну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Достоинство – понятие обширное. Нужно быть достойным своей семьи и своей страны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Толерантность – это не просто эффектное слово. Это работа на каждый день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итератур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Федеральный государственный образовательный стандарт основного общего образования /Министерство образования и науки РФ.- М.: Просвещение,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Фундаментальное ядро содержания общего образования /Под ред. В.В.Козлова, А .М. Кондакова .- М.: Просвещение, 200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Хуторской А.В. Технология проектирования ключевых и предметных компетенций [Электронный ресурс] // Режим доступа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idos.ru/journal/2005/1212.htm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урьянова А.В. Компетентностный подход в образовании [Электронный ресурс] // Режим доступа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festival.1september.ru/articles/574903/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елевко Г.К. Современные образовательные технологии. Учебное пособие. М.: Народное образование, 1998, 256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.Мередит, Ч.Темпл, Д.Стил, «Воспитание  вдумчивых  читателей», 19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.О.Загашева «Заметки на полях. Пример занятия, направленного на развитие критического мышления учащихся на основе стратегии «Условные значки» ( «Библиотека в школе», 2004, №18, с. 10-13)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каткин М.Н. Проблемы современной дидактики. М. Педагогика 198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ахмутов М.И. Организация проблемного обучения М. Педагогика 1977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8DBCA-EC92-43AC-8B81-21972ACD3ED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ализ научно-методической литера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8088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научно-методической литературе (А.В. Хуторской, В.В.Краевский, А.В.Гурьянова, И.А.Зимняя),  несмотря на наличие нескольких  подходов, приоритетными определя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Ценностно-смысловые компет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щекультур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бно-познавате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нформацио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ммуникати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циально-труд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мпетенции личностного самосовершенств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F7CEC-E0FE-46A1-B8F8-26BC5601D8B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ель и задачи педагогическ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ормирование ценностно-смысловых, нравственных установок школьников в образовательном пространстве в  предметной области «Русский язык и литератур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нализ программно-методического сопровождения предметной обла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руктуризация ценностных установок в соответствии с возрастными особенностями учащего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ставление тезауруса нравственных понятий  для введения в учебное  поле учащих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явление эффективных педагогических техник работы с учебным текстом с целью актуализации в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ниторинг сформированности нравственных установок 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C84C7-4D28-45D1-97CD-1E1B16E2AF1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едметные зада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вести к усвоению и осознанию основных нравственных понят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вести к пониманию нравственных проблем, поднятых в русской и зарубежной литерату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вить навыки критического мышл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вить навыки принятия коллективных и самостоятельных реш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835D3-846E-4056-AD52-5196A317EB1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водная диагно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еседы с учащимися в урочное и внеурочное врем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блюд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прос родител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нкетиров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ниторинг литературных предпочтений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нализ творческих работ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канирование аккаунтов в социальных сет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be0e3"/>
                </a:solidFill>
                <a:latin typeface="Arial"/>
              </a:rPr>
              <a:t>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24028"/>
          <p:cNvPicPr/>
          <p:nvPr/>
        </p:nvPicPr>
        <p:blipFill>
          <a:blip r:embed="rId1"/>
          <a:stretch/>
        </p:blipFill>
        <p:spPr>
          <a:xfrm>
            <a:off x="6108840" y="4286160"/>
            <a:ext cx="2340000" cy="3510000"/>
          </a:xfrm>
          <a:prstGeom prst="rect">
            <a:avLst/>
          </a:prstGeom>
          <a:ln w="0">
            <a:noFill/>
          </a:ln>
        </p:spPr>
      </p:pic>
      <p:sp>
        <p:nvSpPr>
          <p:cNvPr id="65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7B3AF-8194-4C3A-BEA2-6BD86BFAD8A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бразец диагнос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be0e3"/>
                </a:solidFill>
                <a:latin typeface="Arial"/>
              </a:rPr>
              <a:t>                    </a:t>
            </a:r>
            <a:r>
              <a:rPr b="1" lang="ru-RU" sz="3200" spc="-1" strike="noStrike">
                <a:solidFill>
                  <a:srgbClr val="bbe0e3"/>
                </a:solidFill>
                <a:latin typeface="Arial"/>
              </a:rPr>
              <a:t>Анкетирование</a:t>
            </a:r>
            <a:r>
              <a:rPr b="0" lang="ru-RU" sz="32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be0e3"/>
                </a:solidFill>
                <a:latin typeface="Arial"/>
              </a:rPr>
              <a:t>Какую бы тему ты выбрал для работы над домашним сочинение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ма чести в повести А.С. Пушкина «Капитанская доч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торическая эпоха в повести А.С. Пушкина «Капитанская доч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ма свободы в поэме М.Ю.Лермонтова «Мцыр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вод: дети выбирают конкретную тему, не подразумевающую проявления собственной позиции  и критичности мыш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4F8D3-823C-4FFD-835E-754C5F2DBD0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4"/>
          <p:cNvGraphicFramePr/>
          <p:nvPr/>
        </p:nvGraphicFramePr>
        <p:xfrm>
          <a:off x="0" y="1065240"/>
          <a:ext cx="8326440" cy="538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5240"/>
                    <a:ext cx="8326440" cy="53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езультаты анкетир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33E07-3AB8-43A5-8570-1511D6E7AE7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609480" y="990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витие эмоциональной сф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ичностный смысл изучаемого содерж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ожительный эмоциональный фон учебных зан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ди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пережи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вчувствов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C4EA7-113B-4C74-930F-9618829CD47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7:40:06Z</dcterms:created>
  <dc:creator>Николай</dc:creator>
  <dc:description/>
  <dc:language>en-US</dc:language>
  <cp:lastModifiedBy>user</cp:lastModifiedBy>
  <dcterms:modified xsi:type="dcterms:W3CDTF">2012-09-25T04:36:20Z</dcterms:modified>
  <cp:revision>1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